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F09A-9FCC-4458-A7E7-792FF5E14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1403-AE91-42BB-ACBF-0557B991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6685-6EFF-43D2-BB1D-BAE5A5CA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55C8-268E-43C8-BB2C-EF136CA62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943D-C215-4C0E-A750-5448C9A9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9A81-2DD4-474F-AC59-8085F430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3583-A0DE-47C7-9007-A16212EB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56A9-2B66-4F9A-8EBD-73EA79E5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A271-1772-40DC-8885-160A33E0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31C3-976C-41AA-8D21-BAD53C38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6769-E1A5-474F-B755-9FFE465D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51C9-2408-4EE0-9A7C-C99BF55E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C8971B-3B3F-4839-A0A8-F6167AE45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valent comp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627200" y="3843360"/>
            <a:ext cx="2502000" cy="2425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6238800" y="3843360"/>
            <a:ext cx="2235240" cy="2235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611680" y="1663560"/>
            <a:ext cx="2637000" cy="1756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660240" y="1531800"/>
            <a:ext cx="39117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1T01:10:00Z</dcterms:created>
  <dc:creator>Nico Van De Casteele</dc:creator>
  <dc:description/>
  <dc:language>en-US</dc:language>
  <cp:lastModifiedBy>Nico Van De Casteele</cp:lastModifiedBy>
  <dcterms:modified xsi:type="dcterms:W3CDTF">2013-11-05T04:52:52Z</dcterms:modified>
  <cp:revision>3</cp:revision>
  <dc:subject/>
  <dc:title>Covalent compounds</dc:title>
</cp:coreProperties>
</file>